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6.png" ContentType="image/png"/>
  <Override PartName="/ppt/media/image15.png" ContentType="image/pn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309600" cy="70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356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5273640" y="-360"/>
            <a:ext cx="40356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Franklin Gothic Demi"/>
              </a:rPr>
              <a:t>Click to move the slide</a:t>
            </a: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0" y="6671880"/>
            <a:ext cx="40356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5273640" y="6671880"/>
            <a:ext cx="40356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214254-7D9E-4C33-BC20-7AAC8310B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273640" y="6672240"/>
            <a:ext cx="4035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EAE1783-1ECC-4CCE-94A6-33A1F8966B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273640" y="6672240"/>
            <a:ext cx="4035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E7172CF-1B18-4C95-8B45-CDE9E43272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273640" y="6672240"/>
            <a:ext cx="4035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1EBF869-9EA8-487F-97D0-443B459B96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273640" y="6672240"/>
            <a:ext cx="4035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387702-B158-4EFE-93C0-0EBAF11C10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273640" y="6672240"/>
            <a:ext cx="4035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B6C93CD-8252-418E-89D5-F78CFD0749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75103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2960" y="3476160"/>
            <a:ext cx="75103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2960" y="347616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61360" y="347616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2400" y="135900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1840" y="135900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2960" y="347616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52400" y="347616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1840" y="347616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2960" y="1359000"/>
            <a:ext cx="75103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75103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77240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2960" y="347616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2960" y="1359000"/>
            <a:ext cx="75103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61360" y="347616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2960" y="3476160"/>
            <a:ext cx="75103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75103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2960" y="3476160"/>
            <a:ext cx="75103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2960" y="347616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61360" y="347616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52400" y="135900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1840" y="135900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2960" y="347616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52400" y="347616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1840" y="347616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75103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77240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2960" y="347616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61360" y="347616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2960" y="3476160"/>
            <a:ext cx="75103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5" descr="Untitled-2"/>
          <p:cNvPicPr/>
          <p:nvPr/>
        </p:nvPicPr>
        <p:blipFill>
          <a:blip r:embed="rId3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12960" y="1359000"/>
            <a:ext cx="75103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1" marL="216000" indent="-216000">
              <a:spcAft>
                <a:spcPts val="876"/>
              </a:spcAft>
              <a:buClr>
                <a:srgbClr val="000066"/>
              </a:buClr>
              <a:buFont typeface="Franklin Gothic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2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3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4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5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6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2" name="Rectangle 20"/>
          <p:cNvSpPr/>
          <p:nvPr/>
        </p:nvSpPr>
        <p:spPr>
          <a:xfrm>
            <a:off x="0" y="6012000"/>
            <a:ext cx="9144000" cy="846000"/>
          </a:xfrm>
          <a:prstGeom prst="rect">
            <a:avLst/>
          </a:prstGeom>
          <a:solidFill>
            <a:srgbClr val="1520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3" name="Picture 22" descr="Humber2ColRev"/>
          <p:cNvPicPr/>
          <p:nvPr/>
        </p:nvPicPr>
        <p:blipFill>
          <a:blip r:embed="rId4"/>
          <a:stretch/>
        </p:blipFill>
        <p:spPr>
          <a:xfrm>
            <a:off x="263520" y="6232680"/>
            <a:ext cx="2000160" cy="401400"/>
          </a:xfrm>
          <a:prstGeom prst="rect">
            <a:avLst/>
          </a:prstGeom>
          <a:ln w="0">
            <a:noFill/>
          </a:ln>
        </p:spPr>
      </p:pic>
      <p:sp>
        <p:nvSpPr>
          <p:cNvPr id="4" name="Text Box 30"/>
          <p:cNvSpPr/>
          <p:nvPr/>
        </p:nvSpPr>
        <p:spPr>
          <a:xfrm>
            <a:off x="852480" y="222120"/>
            <a:ext cx="671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" name="Text Box 31"/>
          <p:cNvSpPr/>
          <p:nvPr/>
        </p:nvSpPr>
        <p:spPr>
          <a:xfrm>
            <a:off x="925560" y="222120"/>
            <a:ext cx="6487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Franklin Gothic Demi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" name="Text Box 34"/>
          <p:cNvSpPr/>
          <p:nvPr/>
        </p:nvSpPr>
        <p:spPr>
          <a:xfrm>
            <a:off x="8388360" y="6216480"/>
            <a:ext cx="493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0353-5612-400B-8BB3-1420A41AD592}" type="slidenum"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TitleCollege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12960" y="1359000"/>
            <a:ext cx="75103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1" marL="216000" indent="-216000">
              <a:spcAft>
                <a:spcPts val="876"/>
              </a:spcAft>
              <a:buClr>
                <a:srgbClr val="000066"/>
              </a:buClr>
              <a:buFont typeface="Franklin Gothic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2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3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4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5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6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Franklin Gothic Demi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56920" y="315720"/>
            <a:ext cx="80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CA" sz="4000" spc="-1" strike="noStrike">
                <a:solidFill>
                  <a:srgbClr val="ffcc00"/>
                </a:solidFill>
                <a:latin typeface="Lucida Sans"/>
              </a:rPr>
              <a:t>BUILDING A WELCOMING COMMUNITY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76120" y="3695400"/>
            <a:ext cx="6629400" cy="8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40"/>
                </a:solidFill>
                <a:latin typeface="Lucida Sans"/>
              </a:rPr>
              <a:t>Access to Quality Language and  Skills Training</a:t>
            </a: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3600" y="1088640"/>
            <a:ext cx="8371080" cy="48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3000"/>
          </a:bodyPr>
          <a:p>
            <a:pPr marL="110880" indent="0">
              <a:lnSpc>
                <a:spcPct val="9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66"/>
                </a:solidFill>
                <a:latin typeface="Franklin Gothic Demi"/>
              </a:rPr>
              <a:t> </a:t>
            </a:r>
            <a:r>
              <a:rPr b="1" lang="en-CA" sz="2800" spc="-1" strike="noStrike">
                <a:solidFill>
                  <a:srgbClr val="000066"/>
                </a:solidFill>
                <a:latin typeface="Franklin Gothic Demi"/>
              </a:rPr>
              <a:t>- </a:t>
            </a: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Provides employment services in 5 </a:t>
            </a:r>
            <a:br>
              <a:rPr sz="2000"/>
            </a:b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communities in Toronto and Brampton 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-110880">
              <a:lnSpc>
                <a:spcPct val="90000"/>
              </a:lnSpc>
              <a:spcAft>
                <a:spcPts val="876"/>
              </a:spcAft>
              <a:buClr>
                <a:srgbClr val="000066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Coordinates Second Career and other </a:t>
            </a:r>
            <a:br>
              <a:rPr sz="2000"/>
            </a:b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initiatives for laid-off workers for Humber</a:t>
            </a: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3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3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Lucida Sans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Lucida Sans"/>
              </a:rPr>
              <a:t>   </a:t>
            </a: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14400"/>
            <a:ext cx="9144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52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66"/>
                </a:solidFill>
                <a:latin typeface="Franklin Gothic Demi"/>
              </a:rPr>
              <a:t>Community Employment Services</a:t>
            </a:r>
            <a:endParaRPr b="0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7236000" y="4600440"/>
            <a:ext cx="1501560" cy="7257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4964040" y="5403960"/>
            <a:ext cx="3882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anklin Gothic Demi"/>
              </a:rPr>
              <a:t>These </a:t>
            </a:r>
            <a:r>
              <a:rPr b="0" i="1" lang="en-US" sz="1100" spc="-1" strike="noStrike">
                <a:solidFill>
                  <a:srgbClr val="ffffff"/>
                </a:solidFill>
                <a:latin typeface="Franklin Gothic Demi"/>
              </a:rPr>
              <a:t>Employment Ontario</a:t>
            </a:r>
            <a:r>
              <a:rPr b="0" lang="en-US" sz="1100" spc="-1" strike="noStrike">
                <a:solidFill>
                  <a:srgbClr val="ffffff"/>
                </a:solidFill>
                <a:latin typeface="Franklin Gothic Demi"/>
              </a:rPr>
              <a:t> services are funded in part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Franklin Gothic Demi"/>
              </a:rPr>
              <a:t>by the Government of Canada </a:t>
            </a:r>
            <a:endParaRPr b="0" lang="en-US" sz="11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841200" y="6175440"/>
            <a:ext cx="20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Franklin Gothic Demi"/>
              </a:rPr>
              <a:t>jobs.humber.ca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2"/>
          <a:srcRect l="37280" t="30478" r="9568" b="27440"/>
          <a:stretch/>
        </p:blipFill>
        <p:spPr>
          <a:xfrm>
            <a:off x="1509840" y="879480"/>
            <a:ext cx="579096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rcRect l="38461" t="25089" r="10650" b="56359"/>
          <a:stretch/>
        </p:blipFill>
        <p:spPr>
          <a:xfrm>
            <a:off x="1436760" y="2003400"/>
            <a:ext cx="6242040" cy="14223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540160" y="4122720"/>
            <a:ext cx="44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newtocanada.humber.ca</a:t>
            </a:r>
            <a:endParaRPr b="0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66"/>
                </a:solidFill>
                <a:latin typeface="Lucida Sans"/>
              </a:rPr>
              <a:t>Humber Mission</a:t>
            </a: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4240" y="952200"/>
            <a:ext cx="89694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umber develops broadly educated, highly skilled and adaptable citizens who significantly contribute to the educational, economic, and social development of their communities.  We accomplish this by: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1" marL="1440"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  </a:t>
            </a: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Preparing learners for careers through a comprehensive choice of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   educational credentials in a broad range of programming; </a:t>
            </a:r>
            <a:endParaRPr b="0" lang="en-US" sz="1800" spc="-1" strike="noStrike">
              <a:solidFill>
                <a:srgbClr val="000066"/>
              </a:solidFill>
              <a:latin typeface="Franklin Gothic Book"/>
            </a:endParaRPr>
          </a:p>
          <a:p>
            <a:pPr lvl="1" marL="1440"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  </a:t>
            </a: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Developing informed and engaged citizens through an applied and liberal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   education;</a:t>
            </a:r>
            <a:endParaRPr b="0" lang="en-US" sz="1800" spc="-1" strike="noStrike">
              <a:solidFill>
                <a:srgbClr val="000066"/>
              </a:solidFill>
              <a:latin typeface="Franklin Gothic Book"/>
            </a:endParaRPr>
          </a:p>
          <a:p>
            <a:pPr lvl="1" marL="1440"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  </a:t>
            </a: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Enabling organizations to enhance their effectiveness through customized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   training and lifelong learning opportunities; and </a:t>
            </a:r>
            <a:endParaRPr b="0" lang="en-US" sz="1800" spc="-1" strike="noStrike">
              <a:solidFill>
                <a:srgbClr val="000066"/>
              </a:solidFill>
              <a:latin typeface="Franklin Gothic Book"/>
            </a:endParaRPr>
          </a:p>
          <a:p>
            <a:pPr lvl="1" marL="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Franklin Gothic Book"/>
            </a:endParaRPr>
          </a:p>
          <a:p>
            <a:pPr lvl="1" marL="1440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Lucida Sans"/>
              </a:rPr>
              <a:t>Supporting our local communities through outreach activities.</a:t>
            </a:r>
            <a:endParaRPr b="0" lang="en-US" sz="1800" spc="-1" strike="noStrike">
              <a:solidFill>
                <a:srgbClr val="000066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" spc="-1" strike="noStrike">
                <a:solidFill>
                  <a:srgbClr val="000066"/>
                </a:solidFill>
                <a:latin typeface="Lucida Sans"/>
              </a:rPr>
              <a:t>  </a:t>
            </a:r>
            <a:endParaRPr b="0" lang="en-US" sz="600" spc="-1" strike="noStrike">
              <a:solidFill>
                <a:srgbClr val="000066"/>
              </a:solidFill>
              <a:latin typeface="Franklin Gothic Demi"/>
            </a:endParaRPr>
          </a:p>
        </p:txBody>
      </p:sp>
      <p:pic>
        <p:nvPicPr>
          <p:cNvPr id="94" name="Picture 2" descr="I:\Departmental\Community Outreach and Workforce Development\COWD website\COWD banner.jpg"/>
          <p:cNvPicPr/>
          <p:nvPr/>
        </p:nvPicPr>
        <p:blipFill>
          <a:blip r:embed="rId1"/>
          <a:stretch/>
        </p:blipFill>
        <p:spPr>
          <a:xfrm>
            <a:off x="676440" y="4502160"/>
            <a:ext cx="8467560" cy="14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Franklin Gothic Demi"/>
              </a:rPr>
              <a:t>Community Outreach &amp; Workforce Development</a:t>
            </a: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811160"/>
            <a:ext cx="846144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522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296b"/>
                </a:solidFill>
                <a:latin typeface="Lucida Sans"/>
              </a:rPr>
              <a:t>To act as a focal point for Humber and the external community to increase access by: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127160" indent="-252360">
              <a:lnSpc>
                <a:spcPct val="100000"/>
              </a:lnSpc>
              <a:spcBef>
                <a:spcPts val="1800"/>
              </a:spcBef>
              <a:buClr>
                <a:srgbClr val="00296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296b"/>
                </a:solidFill>
                <a:latin typeface="Lucida Sans"/>
              </a:rPr>
              <a:t>Identifying community needs/gaps and response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127160" indent="-252360">
              <a:lnSpc>
                <a:spcPct val="100000"/>
              </a:lnSpc>
              <a:spcBef>
                <a:spcPts val="1199"/>
              </a:spcBef>
              <a:buClr>
                <a:srgbClr val="00296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296b"/>
                </a:solidFill>
                <a:latin typeface="Lucida Sans"/>
              </a:rPr>
              <a:t>Building partnerships to create accessible pathways to Humber and employment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127160" indent="-252360">
              <a:lnSpc>
                <a:spcPct val="100000"/>
              </a:lnSpc>
              <a:spcBef>
                <a:spcPts val="1199"/>
              </a:spcBef>
              <a:buClr>
                <a:srgbClr val="00296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296b"/>
                </a:solidFill>
                <a:latin typeface="Lucida Sans"/>
              </a:rPr>
              <a:t>Facilitating, coordinating, supporting and/or managing access project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127160" indent="-252360">
              <a:lnSpc>
                <a:spcPct val="100000"/>
              </a:lnSpc>
              <a:spcBef>
                <a:spcPts val="1199"/>
              </a:spcBef>
              <a:buClr>
                <a:srgbClr val="00296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296b"/>
                </a:solidFill>
                <a:latin typeface="Lucida Sans"/>
              </a:rPr>
              <a:t>Assisting community partners to build capacity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348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50800" y="11145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1e2d6e"/>
                </a:solidFill>
                <a:latin typeface="Franklin Gothic Demi"/>
              </a:rPr>
              <a:t>Our Role:</a:t>
            </a:r>
            <a:endParaRPr b="0" lang="en-US" sz="32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4586400" y="6208560"/>
            <a:ext cx="3338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Franklin Gothic Demi"/>
              </a:rPr>
              <a:t>www.humber.ca/community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61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Lucida Sans"/>
              </a:rPr>
              <a:t>Internationally Trained Immigrant Advising Service</a:t>
            </a: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899640"/>
            <a:ext cx="894096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66400" indent="0">
              <a:lnSpc>
                <a:spcPct val="10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1e2d6e"/>
                </a:solidFill>
                <a:latin typeface="Lucida Sans"/>
              </a:rPr>
              <a:t>	</a:t>
            </a:r>
            <a:r>
              <a:rPr b="0" lang="en-CA" sz="2400" spc="-1" strike="noStrike">
                <a:solidFill>
                  <a:srgbClr val="1e2d6e"/>
                </a:solidFill>
                <a:latin typeface="Lucida Sans"/>
              </a:rPr>
              <a:t>Provides advice on employment pathways or academic programs for internationally trained professionals:</a:t>
            </a: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lvl="2" marL="914400" indent="-274320">
              <a:lnSpc>
                <a:spcPct val="100000"/>
              </a:lnSpc>
              <a:spcBef>
                <a:spcPts val="601"/>
              </a:spcBef>
              <a:buClr>
                <a:srgbClr val="1e2d6e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2d6e"/>
                </a:solidFill>
                <a:latin typeface="Lucida Sans"/>
              </a:rPr>
              <a:t>Career &amp; educational goal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14400" indent="-274320">
              <a:lnSpc>
                <a:spcPct val="100000"/>
              </a:lnSpc>
              <a:spcBef>
                <a:spcPts val="601"/>
              </a:spcBef>
              <a:buClr>
                <a:srgbClr val="1e2d6e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2d6e"/>
                </a:solidFill>
                <a:latin typeface="Lucida Sans"/>
              </a:rPr>
              <a:t>Postsecondary programs and course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14400" indent="-274320">
              <a:lnSpc>
                <a:spcPct val="100000"/>
              </a:lnSpc>
              <a:spcBef>
                <a:spcPts val="601"/>
              </a:spcBef>
              <a:buClr>
                <a:srgbClr val="1e2d6e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2d6e"/>
                </a:solidFill>
                <a:latin typeface="Lucida Sans"/>
              </a:rPr>
              <a:t>Admission and enrolment proces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14400" indent="-274320">
              <a:lnSpc>
                <a:spcPct val="100000"/>
              </a:lnSpc>
              <a:spcBef>
                <a:spcPts val="601"/>
              </a:spcBef>
              <a:buClr>
                <a:srgbClr val="1e2d6e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2d6e"/>
                </a:solidFill>
                <a:latin typeface="Lucida Sans"/>
              </a:rPr>
              <a:t>Referrals to bridging programs and language and skills upgrading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14400" indent="-274320">
              <a:lnSpc>
                <a:spcPct val="100000"/>
              </a:lnSpc>
              <a:spcBef>
                <a:spcPts val="601"/>
              </a:spcBef>
              <a:buClr>
                <a:srgbClr val="1e2d6e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2d6e"/>
                </a:solidFill>
                <a:latin typeface="Lucida Sans"/>
              </a:rPr>
              <a:t>Community resources and referral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266400" indent="0">
              <a:lnSpc>
                <a:spcPct val="10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marL="266400" indent="0">
              <a:lnSpc>
                <a:spcPct val="10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marL="266400"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66"/>
                </a:solidFill>
                <a:latin typeface="Franklin Gothic Demi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marL="266400"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66"/>
                </a:solidFill>
                <a:latin typeface="Franklin Gothic Demi"/>
              </a:rPr>
              <a:t> </a:t>
            </a:r>
            <a:r>
              <a:rPr b="0" lang="en-CA" sz="2400" spc="-1" strike="noStrike">
                <a:solidFill>
                  <a:srgbClr val="000066"/>
                </a:solidFill>
                <a:latin typeface="Franklin Gothic Demi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marL="266400" indent="0">
              <a:spcAft>
                <a:spcPts val="12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 lvl="1" marL="267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66"/>
                </a:solidFill>
                <a:latin typeface="Franklin Gothic Demi"/>
              </a:rPr>
              <a:t>    </a:t>
            </a:r>
            <a:endParaRPr b="0" lang="en-US" sz="2800" spc="-1" strike="noStrike">
              <a:solidFill>
                <a:srgbClr val="000066"/>
              </a:solidFill>
              <a:latin typeface="Franklin Gothic Book"/>
            </a:endParaRPr>
          </a:p>
          <a:p>
            <a:pPr lvl="1" marL="267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Book"/>
            </a:endParaRPr>
          </a:p>
          <a:p>
            <a:pPr lvl="1" marL="267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66"/>
                </a:solidFill>
                <a:latin typeface="Franklin Gothic Demi"/>
              </a:rPr>
              <a:t>    </a:t>
            </a:r>
            <a:endParaRPr b="0" lang="en-US" sz="2800" spc="-1" strike="noStrike">
              <a:solidFill>
                <a:srgbClr val="000066"/>
              </a:solidFill>
              <a:latin typeface="Franklin Gothic Book"/>
            </a:endParaRPr>
          </a:p>
          <a:p>
            <a:pPr lvl="1" marL="267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Book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4281480" y="6211800"/>
            <a:ext cx="34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Franklin Gothic Demi"/>
              </a:rPr>
              <a:t>newtocanada.humber.ca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02" name="Picture 6" descr="http://newtocanada.humber.ca/images/pic2.jpg"/>
          <p:cNvPicPr/>
          <p:nvPr/>
        </p:nvPicPr>
        <p:blipFill>
          <a:blip r:embed="rId1"/>
          <a:srcRect l="0" t="0" r="0" b="3231"/>
          <a:stretch/>
        </p:blipFill>
        <p:spPr>
          <a:xfrm>
            <a:off x="2438280" y="4471920"/>
            <a:ext cx="670572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Lucida Sans"/>
              </a:rPr>
              <a:t>Language Training and Services </a:t>
            </a: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347760" y="1262160"/>
            <a:ext cx="855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2d6e"/>
                </a:solidFill>
                <a:latin typeface="Lucida Sans"/>
              </a:rPr>
              <a:t>Language is one of the biggest barriers to effective newcomer settlement and entry into the labour market.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2d6e"/>
                </a:solidFill>
                <a:latin typeface="Lucida Sans"/>
              </a:rPr>
              <a:t>Humber offers: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05" name="Picture 4" descr="http://t0.gstatic.com/images?q=tbn:ANd9GcTLwdYfpNufsy0EmxxR9LG3oJLP74pf5cBblbZ6ylZePG2kGj73"/>
          <p:cNvPicPr/>
          <p:nvPr/>
        </p:nvPicPr>
        <p:blipFill>
          <a:blip r:embed="rId1"/>
          <a:srcRect l="30966" t="0" r="26371" b="297"/>
          <a:stretch/>
        </p:blipFill>
        <p:spPr>
          <a:xfrm>
            <a:off x="6095880" y="3792600"/>
            <a:ext cx="3048120" cy="22161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0"/>
          <p:cNvSpPr/>
          <p:nvPr/>
        </p:nvSpPr>
        <p:spPr>
          <a:xfrm>
            <a:off x="420840" y="2989440"/>
            <a:ext cx="548640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buClr>
                <a:srgbClr val="5d7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74d3"/>
                </a:solidFill>
                <a:latin typeface="Franklin Gothic Demi"/>
              </a:rPr>
              <a:t> </a:t>
            </a:r>
            <a:r>
              <a:rPr b="0" lang="en-US" sz="2000" spc="-1" strike="noStrike">
                <a:solidFill>
                  <a:srgbClr val="1e2d6e"/>
                </a:solidFill>
                <a:latin typeface="Lucida Sans"/>
              </a:rPr>
              <a:t>The English Language Centre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buClr>
                <a:srgbClr val="1e2d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buClr>
                <a:srgbClr val="1e2d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2d6e"/>
                </a:solidFill>
                <a:latin typeface="Lucida Sans"/>
              </a:rPr>
              <a:t>Occupation-specific Language Training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buClr>
                <a:srgbClr val="1e2d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2d6e"/>
                </a:solidFill>
                <a:latin typeface="Lucida Sans"/>
              </a:rPr>
              <a:t>An official IELTS Information Centre  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07" name="Picture 2" descr="http://www.humber.ca/liberalarts/sites/default/files/IELTS_logo.png"/>
          <p:cNvPicPr/>
          <p:nvPr/>
        </p:nvPicPr>
        <p:blipFill>
          <a:blip r:embed="rId2"/>
          <a:stretch/>
        </p:blipFill>
        <p:spPr>
          <a:xfrm>
            <a:off x="2449440" y="5518080"/>
            <a:ext cx="612720" cy="198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Funded%20by%20CIC%20logo"/>
          <p:cNvPicPr/>
          <p:nvPr/>
        </p:nvPicPr>
        <p:blipFill>
          <a:blip r:embed="rId3"/>
          <a:stretch/>
        </p:blipFill>
        <p:spPr>
          <a:xfrm>
            <a:off x="1971720" y="4552920"/>
            <a:ext cx="1866960" cy="4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66"/>
                </a:solidFill>
                <a:latin typeface="Lucida Sans"/>
              </a:rPr>
              <a:t>Bridge Training Projects for Skilled Immigrants</a:t>
            </a: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6240" y="857160"/>
            <a:ext cx="866592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Engineering Software Skills Enhancement Program – </a:t>
            </a:r>
            <a:br>
              <a:rPr sz="2000"/>
            </a:b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School of Applied Technology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Part time, 2-semester program that provides internationally trained Civil and Electrical Engineers with training  in the latest technical and  software skills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.NET Solutions for Internationally Trained IT Professionals – School of Media Studies  &amp;  IT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lnSpc>
                <a:spcPct val="10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24 week program that provides in depth knowledge of application development using Microsoft .NET 3.5 and database administration, implementation and maintenance using SQL Server 2008 </a:t>
            </a:r>
            <a:r>
              <a:rPr b="0" lang="en-CA" sz="2400" spc="-1" strike="noStrike">
                <a:solidFill>
                  <a:srgbClr val="000066"/>
                </a:solidFill>
                <a:latin typeface="Franklin Gothic Demi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Franklin Gothic Demi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809520" y="6175440"/>
            <a:ext cx="31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Franklin Gothic Demi"/>
              </a:rPr>
              <a:t>newtocanada.humber.ca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88640" y="871200"/>
            <a:ext cx="895500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Sales and Marketing Connections – 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-  helps Internationally Trained Sales and Marketing</a:t>
            </a:r>
            <a:br>
              <a:rPr sz="2000"/>
            </a:b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       </a:t>
            </a: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Professionals move towards employment in their field 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-  Humber teaches Channel Management, Professional Selling, </a:t>
            </a:r>
            <a:br>
              <a:rPr sz="2000"/>
            </a:b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     </a:t>
            </a: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Marketing and E-Commerce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Trades Win Support Program – 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1" marL="698400" indent="-2685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-</a:t>
            </a:r>
            <a:r>
              <a:rPr b="0" lang="en-CA" sz="2000" spc="-1" strike="noStrike">
                <a:solidFill>
                  <a:srgbClr val="00296b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11-week program that prepares Internationally Trained Construction and Maintenance Electricians, Industrial Electricians and Millwrights to write and pass the Certificate of Qualification exam</a:t>
            </a:r>
            <a:endParaRPr b="0" lang="en-US" sz="2000" spc="-1" strike="noStrike">
              <a:solidFill>
                <a:srgbClr val="000066"/>
              </a:solidFill>
              <a:latin typeface="Franklin Gothic Book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66"/>
                </a:solidFill>
                <a:latin typeface="Franklin Gothic Demi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spcAft>
                <a:spcPts val="1049"/>
              </a:spcAft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809520" y="6175440"/>
            <a:ext cx="31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Franklin Gothic Demi"/>
              </a:rPr>
              <a:t>newtocanada.humber.ca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7197840" y="1073160"/>
            <a:ext cx="1628640" cy="647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 Skills for Change Logo"/>
          <p:cNvPicPr/>
          <p:nvPr/>
        </p:nvPicPr>
        <p:blipFill>
          <a:blip r:embed="rId2"/>
          <a:stretch/>
        </p:blipFill>
        <p:spPr>
          <a:xfrm>
            <a:off x="6010200" y="3598920"/>
            <a:ext cx="2444760" cy="5522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66"/>
                </a:solidFill>
                <a:latin typeface="Lucida Sans"/>
              </a:rPr>
              <a:t>Bridge Training Projects for Skilled Immigrants</a:t>
            </a: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66"/>
                </a:solidFill>
                <a:latin typeface="Lucida Sans"/>
              </a:rPr>
              <a:t>Mentoring Partnership</a:t>
            </a: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07600" y="1784160"/>
            <a:ext cx="8099640" cy="39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Franklin Gothic Demi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Franklin Gothic Demi"/>
              </a:rPr>
              <a:t>-  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New immigrants (mentees) are matched  with mentors who share the same profession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-  Mentors give 24 hours of their time over a four-month period to help their mentee navigate the job search process by sharing their knowledge, experience and professional networks </a:t>
            </a:r>
            <a:br>
              <a:rPr sz="2400"/>
            </a:b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marL="343080" indent="-343080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2506680" y="6208560"/>
            <a:ext cx="63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Franklin Gothic Demi"/>
              </a:rPr>
              <a:t>www.triec.ca/programs/the-mentor-partnership</a:t>
            </a:r>
            <a:endParaRPr b="0" lang="en-US" sz="22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20" name="Picture 2" descr="http://www.triec.ca/files/364/original/TMP-newlogo.jpg"/>
          <p:cNvPicPr/>
          <p:nvPr/>
        </p:nvPicPr>
        <p:blipFill>
          <a:blip r:embed="rId1"/>
          <a:stretch/>
        </p:blipFill>
        <p:spPr>
          <a:xfrm>
            <a:off x="6335640" y="1035000"/>
            <a:ext cx="2190960" cy="5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Franklin Gothic Demi"/>
              </a:rPr>
              <a:t>Pathways to Postsecondary</a:t>
            </a: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2960" y="1058760"/>
            <a:ext cx="751032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876"/>
              </a:spcAft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66"/>
                </a:solidFill>
                <a:latin typeface="Lucida Sans"/>
              </a:rPr>
              <a:t>I</a:t>
            </a: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nformation sessions to local middle &amp; secondary schools to inform students regarding the importance of postsecondary education and pathways to accessing apprenticeship, colleges and universities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Aft>
                <a:spcPts val="876"/>
              </a:spcAft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Similar sessions are delivered to parents</a:t>
            </a:r>
            <a:br>
              <a:rPr sz="2000"/>
            </a:b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through partnerships with Rexdale Women’s</a:t>
            </a:r>
            <a:br>
              <a:rPr sz="2000"/>
            </a:b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Centre, MicroSkills, Albion Neighbourhood </a:t>
            </a:r>
            <a:br>
              <a:rPr sz="2000"/>
            </a:b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Services, Rexdale Community Health Centre, </a:t>
            </a:r>
            <a:br>
              <a:rPr sz="2000"/>
            </a:b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TDSB, etc.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pic>
        <p:nvPicPr>
          <p:cNvPr id="123" name="Picture 2" descr="I:\Departmental\Community Outreach and Workforce Development\COWD website\stock images\Young Man holding laptop.jpg"/>
          <p:cNvPicPr/>
          <p:nvPr/>
        </p:nvPicPr>
        <p:blipFill>
          <a:blip r:embed="rId1"/>
          <a:stretch/>
        </p:blipFill>
        <p:spPr>
          <a:xfrm>
            <a:off x="7207200" y="3106800"/>
            <a:ext cx="1936800" cy="29001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3556080" y="613872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Demi"/>
              </a:rPr>
              <a:t>www.humber.ca/community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5:55:50Z</dcterms:created>
  <dc:creator>Administrator</dc:creator>
  <dc:description/>
  <dc:language>en-US</dc:language>
  <cp:lastModifiedBy>Humber College</cp:lastModifiedBy>
  <cp:lastPrinted>2001-02-02T15:46:39Z</cp:lastPrinted>
  <dcterms:modified xsi:type="dcterms:W3CDTF">2011-06-27T18:53:23Z</dcterms:modified>
  <cp:revision>295</cp:revision>
  <dc:subject/>
  <dc:title>HUMBER COLLEGE</dc:title>
</cp:coreProperties>
</file>